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238D-A6A5-420F-A3D0-A5963FC85E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DDA2-BC9E-45F8-AB05-B7C4EFB98CB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EECA-9CCA-4448-8E71-498B9817AC6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33F5B-A66B-416D-BA82-504E4780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657C4-93E8-4031-A1E4-94AA19D0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4200F-468F-4FB1-9BC2-E741DF03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C21C3-DC15-46E9-866B-E918C693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BB94A-D25B-478C-8C41-DD29D36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715F1-D757-481F-BD32-8A86989D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DCA84-6455-4CFB-802D-914D1191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25D39-040E-4EF6-A433-AA65ED1F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7DD1B-C6DC-4249-8E17-242A00DA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639AF-CC5E-448D-A52A-8FD4BBEF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8A179-16B9-4BB9-BED6-E6F34DB7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1EAF3-AD2A-4425-9AB5-447C8AB7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A811E-EEBE-4B56-8FE7-96F47098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6C5D9-CAE3-4DC0-B606-5E887842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026D8-DB90-48A8-A80D-DB968600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E2F8B-67D9-407F-BFA4-A7CA653F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530FE-9FCE-4EAC-A50D-801D3BCB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B27F7-C850-497C-9806-D3C0A8B7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BCD6D-57F2-4F53-843E-FFEACA9E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B73BD-BF99-480A-9E82-08DDE0FB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ABDEB-9CDC-44D8-A91F-B734A6B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4479F-007C-46D6-85A3-3C8AC901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C80196-A993-4509-B72A-4B0C761A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2C5C6-E528-46BD-802B-30E68BB0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9EFD-BE71-4BDB-82BF-FFFBBAB9759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DE28-1BF5-439F-8CCC-BFD60F6BA2A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4646-A65B-4B5A-8DB8-4650DC78F2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2210-84C6-4119-A555-E4F85C09DAC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6AB-2300-40CD-9462-9429756644E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8EF9-4BDA-4861-96C1-8776C3FD373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735F-439B-4C84-8A57-91AFE4FD0942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61-162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선별검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5-8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MMSE-K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치매척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9-170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0-171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1-175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명기한 배회 팔찌나 위치추적기 착용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 망상에 대비해 예비 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81-18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82-184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5640"/>
              <a:chOff x="285480" y="642600"/>
              <a:chExt cx="8644320" cy="525564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440"/>
                <a:ext cx="8644320" cy="2683800"/>
                <a:chOff x="285480" y="321444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44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284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전문지식 갖춘 상담자가 담당 바람직함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치매상담콜센터 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1899-9988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중앙치매센터 우리동네 가족모임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820720" cy="1992600"/>
              <a:chOff x="0" y="1139760"/>
              <a:chExt cx="882072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304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53524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delirium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3320"/>
            <a:chOff x="0" y="0"/>
            <a:chExt cx="9144000" cy="640332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840"/>
              <a:chOff x="285480" y="857160"/>
              <a:chExt cx="8606160" cy="257184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9080"/>
              <a:chOff x="285480" y="3504240"/>
              <a:chExt cx="8712360" cy="289908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3000"/>
                <a:ext cx="8606880" cy="2380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24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SM-5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두부 외상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타나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1400"/>
            <a:chOff x="285840" y="285840"/>
            <a:chExt cx="8715240" cy="607140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440"/>
              <a:ext cx="8715240" cy="5428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0:14Z</dcterms:modified>
  <cp:revision>28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